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12B-41DD-4354-959F-1E659E4E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2DF-DC80-4636-8E61-5E764129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2D7-14DC-4FF1-8F64-4580D602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D1B-5E06-49ED-9696-DFBF6BC9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049-A221-426D-8400-43FC1097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DE2-E70C-4A7A-90C5-94CD63E7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6D4-3296-4B55-B602-0ED83D27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E28-52E6-4085-A19B-07C04FEF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C1E-9C17-427C-8133-F96CF0E2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6AE-9976-4E28-AFF8-5177574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B5A-A958-4FCB-A9BB-DA4A5504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CC9-CC53-441C-B3DE-B3FD478A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ZapfDingbats BT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ZapfDingbats BT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A003-EC81-4A07-BD74-887E0E8B2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Leave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Pages 578; 595 - 59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33240" y="1814400"/>
            <a:ext cx="8243640" cy="2183760"/>
            <a:chOff x="633240" y="1814400"/>
            <a:chExt cx="8243640" cy="2183760"/>
          </a:xfrm>
        </p:grpSpPr>
        <p:sp>
          <p:nvSpPr>
            <p:cNvPr id="188" name=""/>
            <p:cNvSpPr/>
            <p:nvPr/>
          </p:nvSpPr>
          <p:spPr>
            <a:xfrm>
              <a:off x="1274400" y="3424320"/>
              <a:ext cx="367200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enzym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44160" y="2844720"/>
              <a:ext cx="67215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contains rainwater and digestiv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7400" y="2336760"/>
              <a:ext cx="718524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to “funnel” insects; the “pitcher”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240" y="1814400"/>
              <a:ext cx="824364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a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pitcher plant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leaves are shape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0" y="1058760"/>
            <a:ext cx="81565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Arial"/>
              </a:rPr>
              <a:t>4.  Carnivorous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03440" y="284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741760" y="5892840"/>
            <a:ext cx="326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Arial"/>
              </a:rPr>
              <a:t>Pitcher Pl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95360" y="246240"/>
            <a:ext cx="4280040" cy="5811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71920" y="6161040"/>
            <a:ext cx="326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00"/>
                </a:solidFill>
                <a:latin typeface="Arial"/>
              </a:rPr>
              <a:t>Pitcher Pl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0280" y="1638360"/>
            <a:ext cx="8229600" cy="1962360"/>
            <a:chOff x="530280" y="1638360"/>
            <a:chExt cx="8229600" cy="1962360"/>
          </a:xfrm>
        </p:grpSpPr>
        <p:sp>
          <p:nvSpPr>
            <p:cNvPr id="199" name=""/>
            <p:cNvSpPr/>
            <p:nvPr/>
          </p:nvSpPr>
          <p:spPr>
            <a:xfrm>
              <a:off x="1141560" y="2973240"/>
              <a:ext cx="69800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digestive enzym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84400" y="2349360"/>
              <a:ext cx="744696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secretions (which trap insects) an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0280" y="1638360"/>
              <a:ext cx="82296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b.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  sundew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leaves have sticky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822400" y="577800"/>
            <a:ext cx="3932280" cy="5180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89440" y="5846760"/>
            <a:ext cx="2655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sunde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03280" y="3998880"/>
            <a:ext cx="668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76240" y="1265400"/>
            <a:ext cx="8099640" cy="2427480"/>
            <a:chOff x="876240" y="1265400"/>
            <a:chExt cx="8099640" cy="2427480"/>
          </a:xfrm>
        </p:grpSpPr>
        <p:sp>
          <p:nvSpPr>
            <p:cNvPr id="207" name=""/>
            <p:cNvSpPr/>
            <p:nvPr/>
          </p:nvSpPr>
          <p:spPr>
            <a:xfrm>
              <a:off x="1379520" y="3065400"/>
              <a:ext cx="6197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release digestive enzym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3280" y="2455920"/>
              <a:ext cx="60087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trap the animals inside an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20920" y="1862280"/>
              <a:ext cx="65451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are hinged; they fold up &amp; an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76240" y="1265400"/>
              <a:ext cx="80996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c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Venus Flytrap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leaf blad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46200" y="546120"/>
            <a:ext cx="6540480" cy="4540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94200" y="5443560"/>
            <a:ext cx="32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Venus Fly Tra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94200" y="5443560"/>
            <a:ext cx="32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Arial"/>
              </a:rPr>
              <a:t>Venus Fly Tra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00080" y="523800"/>
            <a:ext cx="62438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503280" y="3998880"/>
            <a:ext cx="668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35080" y="1886040"/>
            <a:ext cx="8038800" cy="2541600"/>
            <a:chOff x="235080" y="1886040"/>
            <a:chExt cx="8038800" cy="2541600"/>
          </a:xfrm>
        </p:grpSpPr>
        <p:sp>
          <p:nvSpPr>
            <p:cNvPr id="218" name=""/>
            <p:cNvSpPr/>
            <p:nvPr/>
          </p:nvSpPr>
          <p:spPr>
            <a:xfrm>
              <a:off x="1000080" y="3800160"/>
              <a:ext cx="56451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insects (ex. nicotine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57240" y="3204720"/>
              <a:ext cx="67626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growth and development of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5080" y="1886040"/>
              <a:ext cx="73879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5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Chemical Defenses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chemical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42840" y="2568240"/>
              <a:ext cx="73310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on leaves that kill or disrupt th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A.  Functio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929040"/>
            <a:ext cx="9144000" cy="812880"/>
            <a:chOff x="0" y="3929040"/>
            <a:chExt cx="9144000" cy="812880"/>
          </a:xfrm>
        </p:grpSpPr>
        <p:sp>
          <p:nvSpPr>
            <p:cNvPr id="45" name=""/>
            <p:cNvSpPr/>
            <p:nvPr/>
          </p:nvSpPr>
          <p:spPr>
            <a:xfrm>
              <a:off x="3809880" y="431028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929040"/>
              <a:ext cx="91440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6600"/>
                  </a:solidFill>
                  <a:latin typeface="Wingdings"/>
                  <a:ea typeface="Wingdings"/>
                </a:rPr>
                <a:t>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 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CO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2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 + H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2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0          C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6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H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12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O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6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  +  O</a:t>
              </a:r>
              <a:r>
                <a:rPr b="0" lang="en-US" sz="4000" spc="-1" strike="noStrike" baseline="-25000">
                  <a:solidFill>
                    <a:srgbClr val="006600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76120" y="1666800"/>
            <a:ext cx="8839080" cy="1496160"/>
            <a:chOff x="276120" y="1666800"/>
            <a:chExt cx="8839080" cy="1496160"/>
          </a:xfrm>
        </p:grpSpPr>
        <p:sp>
          <p:nvSpPr>
            <p:cNvPr id="48" name=""/>
            <p:cNvSpPr/>
            <p:nvPr/>
          </p:nvSpPr>
          <p:spPr>
            <a:xfrm>
              <a:off x="1266480" y="2428920"/>
              <a:ext cx="75438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6600"/>
                  </a:solidFill>
                  <a:latin typeface="Verdana"/>
                </a:rPr>
                <a:t>carry out photosynthesis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6120" y="1666800"/>
              <a:ext cx="8839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6600"/>
                  </a:solidFill>
                  <a:latin typeface="Verdana"/>
                </a:rPr>
                <a:t>1.  specialized organs that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B.  Parts of the Leaf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1280" y="3876840"/>
            <a:ext cx="8839080" cy="2927160"/>
            <a:chOff x="71280" y="3876840"/>
            <a:chExt cx="8839080" cy="2927160"/>
          </a:xfrm>
        </p:grpSpPr>
        <p:sp>
          <p:nvSpPr>
            <p:cNvPr id="52" name=""/>
            <p:cNvSpPr/>
            <p:nvPr/>
          </p:nvSpPr>
          <p:spPr>
            <a:xfrm>
              <a:off x="985680" y="4638600"/>
              <a:ext cx="79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the upper &amp; lower surface of the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2000" y="5400720"/>
              <a:ext cx="74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leaf that functions in protec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7960" y="6162840"/>
              <a:ext cx="6629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280" y="3876840"/>
              <a:ext cx="868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2.  </a:t>
              </a:r>
              <a:r>
                <a:rPr b="1" lang="en-US" sz="4000" spc="-1" strike="noStrike" u="sng">
                  <a:solidFill>
                    <a:srgbClr val="006600"/>
                  </a:solidFill>
                  <a:uFillTx/>
                  <a:latin typeface="Verdana"/>
                </a:rPr>
                <a:t>Epidermis</a:t>
              </a:r>
              <a:r>
                <a:rPr b="0" lang="en-US" sz="4000" spc="-1" strike="noStrike">
                  <a:solidFill>
                    <a:srgbClr val="006600"/>
                  </a:solidFill>
                  <a:latin typeface="Verdana"/>
                </a:rPr>
                <a:t> - 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single layer on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440" y="1514520"/>
            <a:ext cx="9144000" cy="2013840"/>
            <a:chOff x="28440" y="1514520"/>
            <a:chExt cx="9144000" cy="2013840"/>
          </a:xfrm>
        </p:grpSpPr>
        <p:sp>
          <p:nvSpPr>
            <p:cNvPr id="57" name=""/>
            <p:cNvSpPr/>
            <p:nvPr/>
          </p:nvSpPr>
          <p:spPr>
            <a:xfrm>
              <a:off x="28440" y="15145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1.  </a:t>
              </a:r>
              <a:r>
                <a:rPr b="1" lang="en-US" sz="3600" spc="-1" strike="noStrike" u="sng">
                  <a:solidFill>
                    <a:srgbClr val="006600"/>
                  </a:solidFill>
                  <a:uFillTx/>
                  <a:latin typeface="Verdana"/>
                </a:rPr>
                <a:t>Cuticle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 - thin, waxy outer lay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6520" y="21999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that prevents the loss of to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6520" y="2885760"/>
              <a:ext cx="762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much wat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Parts of the Leaf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19320" y="5029200"/>
            <a:ext cx="7238880" cy="2251800"/>
            <a:chOff x="1219320" y="5029200"/>
            <a:chExt cx="7238880" cy="2251800"/>
          </a:xfrm>
        </p:grpSpPr>
        <p:sp>
          <p:nvSpPr>
            <p:cNvPr id="62" name=""/>
            <p:cNvSpPr/>
            <p:nvPr/>
          </p:nvSpPr>
          <p:spPr>
            <a:xfrm>
              <a:off x="1828800" y="5803920"/>
              <a:ext cx="48006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(food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9320" y="5029200"/>
              <a:ext cx="72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b. </a:t>
              </a:r>
              <a:r>
                <a:rPr b="1" lang="en-US" sz="3600" spc="-1" strike="noStrike" u="sng">
                  <a:solidFill>
                    <a:srgbClr val="006600"/>
                  </a:solidFill>
                  <a:uFillTx/>
                  <a:latin typeface="Verdana"/>
                </a:rPr>
                <a:t>Phloem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 - transports suga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4191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Verdana"/>
              </a:rPr>
              <a:t>a. 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Verdana"/>
              </a:rPr>
              <a:t>Xylem</a:t>
            </a:r>
            <a:r>
              <a:rPr b="0" lang="en-US" sz="3600" spc="-1" strike="noStrike">
                <a:solidFill>
                  <a:srgbClr val="006600"/>
                </a:solidFill>
                <a:latin typeface="Verdana"/>
              </a:rPr>
              <a:t> - transports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429000"/>
            <a:ext cx="868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4.  </a:t>
            </a:r>
            <a:r>
              <a:rPr b="1" lang="en-US" sz="3500" spc="-1" strike="noStrike" u="sng">
                <a:solidFill>
                  <a:srgbClr val="006600"/>
                </a:solidFill>
                <a:uFillTx/>
                <a:latin typeface="Verdana"/>
              </a:rPr>
              <a:t>Vein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- bundles of vascular tissu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23920" y="1523880"/>
            <a:ext cx="8686800" cy="1900080"/>
            <a:chOff x="223920" y="1523880"/>
            <a:chExt cx="8686800" cy="1900080"/>
          </a:xfrm>
        </p:grpSpPr>
        <p:sp>
          <p:nvSpPr>
            <p:cNvPr id="67" name=""/>
            <p:cNvSpPr/>
            <p:nvPr/>
          </p:nvSpPr>
          <p:spPr>
            <a:xfrm>
              <a:off x="223920" y="1523880"/>
              <a:ext cx="86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3.  </a:t>
              </a:r>
              <a:r>
                <a:rPr b="1" lang="en-US" sz="3600" spc="-1" strike="noStrike" u="sng">
                  <a:solidFill>
                    <a:srgbClr val="006600"/>
                  </a:solidFill>
                  <a:uFillTx/>
                  <a:latin typeface="Verdana"/>
                </a:rPr>
                <a:t>Mesophyll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 - area where there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3800" y="2165400"/>
              <a:ext cx="671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are cells with chloroplasts;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00160" y="2781360"/>
              <a:ext cx="696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area of photosynthes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Parts of the Leaf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5360" y="1323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5.  </a:t>
            </a:r>
            <a:r>
              <a:rPr b="1" lang="en-US" sz="3500" spc="-1" strike="noStrike" u="sng">
                <a:solidFill>
                  <a:srgbClr val="006600"/>
                </a:solidFill>
                <a:uFillTx/>
                <a:latin typeface="Verdana"/>
              </a:rPr>
              <a:t>Stomata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- tiny pores on the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lower surface that allows carbon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dioxide to enter and water &amp;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oxygen to exit the leaf during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photosynthesis; allows oxygen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to enter and water &amp; carbon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dioxide to exit the leaf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3500" spc="-1" strike="noStrike">
                <a:solidFill>
                  <a:srgbClr val="006600"/>
                </a:solidFill>
                <a:latin typeface="Verdana"/>
              </a:rPr>
              <a:t>during respirat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Verdana"/>
              </a:rPr>
              <a:t>Parts of the Leaf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1436760"/>
            <a:ext cx="8985240" cy="2253960"/>
            <a:chOff x="0" y="1436760"/>
            <a:chExt cx="8985240" cy="2253960"/>
          </a:xfrm>
        </p:grpSpPr>
        <p:sp>
          <p:nvSpPr>
            <p:cNvPr id="74" name=""/>
            <p:cNvSpPr/>
            <p:nvPr/>
          </p:nvSpPr>
          <p:spPr>
            <a:xfrm>
              <a:off x="0" y="1436760"/>
              <a:ext cx="774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6. </a:t>
              </a:r>
              <a:r>
                <a:rPr b="1" lang="en-US" sz="3600" spc="-1" strike="noStrike" u="sng">
                  <a:solidFill>
                    <a:srgbClr val="006600"/>
                  </a:solidFill>
                  <a:uFillTx/>
                  <a:latin typeface="Verdana"/>
                </a:rPr>
                <a:t>Guard Cells</a:t>
              </a: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 - opens &amp; clos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1120" y="2246400"/>
              <a:ext cx="830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Verdana"/>
                </a:rPr>
                <a:t>the stomata; regulates ga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2560" y="3048120"/>
              <a:ext cx="679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Arial"/>
                </a:rPr>
                <a:t>exchange and water los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952720" y="4159080"/>
            <a:ext cx="2387520" cy="2125800"/>
            <a:chOff x="2952720" y="4159080"/>
            <a:chExt cx="2387520" cy="2125800"/>
          </a:xfrm>
        </p:grpSpPr>
        <p:sp>
          <p:nvSpPr>
            <p:cNvPr id="78" name=""/>
            <p:cNvSpPr/>
            <p:nvPr/>
          </p:nvSpPr>
          <p:spPr>
            <a:xfrm>
              <a:off x="2952720" y="4159080"/>
              <a:ext cx="2387520" cy="21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065400" y="4559400"/>
              <a:ext cx="1001880" cy="988920"/>
              <a:chOff x="3065400" y="4559400"/>
              <a:chExt cx="1001880" cy="988920"/>
            </a:xfrm>
          </p:grpSpPr>
          <p:sp>
            <p:nvSpPr>
              <p:cNvPr id="80" name=""/>
              <p:cNvSpPr/>
              <p:nvPr/>
            </p:nvSpPr>
            <p:spPr>
              <a:xfrm>
                <a:off x="3207960" y="4664160"/>
                <a:ext cx="383040" cy="796320"/>
              </a:xfrm>
              <a:custGeom>
                <a:avLst/>
                <a:gdLst/>
                <a:ahLst/>
                <a:rect l="l" t="t" r="r" b="b"/>
                <a:pathLst>
                  <a:path w="545" h="1326">
                    <a:moveTo>
                      <a:pt x="378" y="0"/>
                    </a:moveTo>
                    <a:cubicBezTo>
                      <a:pt x="343" y="14"/>
                      <a:pt x="283" y="35"/>
                      <a:pt x="232" y="82"/>
                    </a:cubicBezTo>
                    <a:cubicBezTo>
                      <a:pt x="181" y="129"/>
                      <a:pt x="106" y="219"/>
                      <a:pt x="70" y="285"/>
                    </a:cubicBezTo>
                    <a:cubicBezTo>
                      <a:pt x="34" y="351"/>
                      <a:pt x="27" y="419"/>
                      <a:pt x="16" y="478"/>
                    </a:cubicBezTo>
                    <a:cubicBezTo>
                      <a:pt x="5" y="537"/>
                      <a:pt x="2" y="592"/>
                      <a:pt x="1" y="640"/>
                    </a:cubicBezTo>
                    <a:cubicBezTo>
                      <a:pt x="0" y="688"/>
                      <a:pt x="3" y="710"/>
                      <a:pt x="10" y="765"/>
                    </a:cubicBezTo>
                    <a:cubicBezTo>
                      <a:pt x="17" y="820"/>
                      <a:pt x="23" y="909"/>
                      <a:pt x="43" y="970"/>
                    </a:cubicBezTo>
                    <a:cubicBezTo>
                      <a:pt x="63" y="1031"/>
                      <a:pt x="100" y="1084"/>
                      <a:pt x="133" y="1129"/>
                    </a:cubicBezTo>
                    <a:cubicBezTo>
                      <a:pt x="166" y="1174"/>
                      <a:pt x="204" y="1211"/>
                      <a:pt x="238" y="1240"/>
                    </a:cubicBezTo>
                    <a:cubicBezTo>
                      <a:pt x="272" y="1269"/>
                      <a:pt x="301" y="1286"/>
                      <a:pt x="334" y="1300"/>
                    </a:cubicBezTo>
                    <a:cubicBezTo>
                      <a:pt x="367" y="1314"/>
                      <a:pt x="409" y="1326"/>
                      <a:pt x="439" y="1324"/>
                    </a:cubicBezTo>
                    <a:cubicBezTo>
                      <a:pt x="469" y="1322"/>
                      <a:pt x="497" y="1306"/>
                      <a:pt x="514" y="1288"/>
                    </a:cubicBezTo>
                    <a:cubicBezTo>
                      <a:pt x="531" y="1270"/>
                      <a:pt x="538" y="1247"/>
                      <a:pt x="541" y="1213"/>
                    </a:cubicBezTo>
                    <a:cubicBezTo>
                      <a:pt x="544" y="1179"/>
                      <a:pt x="542" y="1133"/>
                      <a:pt x="535" y="1081"/>
                    </a:cubicBezTo>
                    <a:cubicBezTo>
                      <a:pt x="528" y="1029"/>
                      <a:pt x="512" y="953"/>
                      <a:pt x="502" y="901"/>
                    </a:cubicBezTo>
                    <a:cubicBezTo>
                      <a:pt x="492" y="849"/>
                      <a:pt x="481" y="809"/>
                      <a:pt x="475" y="766"/>
                    </a:cubicBezTo>
                    <a:cubicBezTo>
                      <a:pt x="469" y="723"/>
                      <a:pt x="463" y="687"/>
                      <a:pt x="463" y="643"/>
                    </a:cubicBezTo>
                    <a:cubicBezTo>
                      <a:pt x="463" y="599"/>
                      <a:pt x="468" y="549"/>
                      <a:pt x="475" y="502"/>
                    </a:cubicBezTo>
                    <a:cubicBezTo>
                      <a:pt x="482" y="455"/>
                      <a:pt x="494" y="409"/>
                      <a:pt x="505" y="361"/>
                    </a:cubicBezTo>
                    <a:cubicBezTo>
                      <a:pt x="516" y="313"/>
                      <a:pt x="537" y="261"/>
                      <a:pt x="541" y="214"/>
                    </a:cubicBezTo>
                    <a:cubicBezTo>
                      <a:pt x="545" y="167"/>
                      <a:pt x="543" y="112"/>
                      <a:pt x="529" y="79"/>
                    </a:cubicBezTo>
                    <a:cubicBezTo>
                      <a:pt x="515" y="46"/>
                      <a:pt x="479" y="29"/>
                      <a:pt x="454" y="16"/>
                    </a:cubicBezTo>
                    <a:cubicBezTo>
                      <a:pt x="429" y="3"/>
                      <a:pt x="394" y="3"/>
                      <a:pt x="378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592080" y="4663800"/>
                <a:ext cx="383040" cy="796320"/>
              </a:xfrm>
              <a:custGeom>
                <a:avLst/>
                <a:gdLst/>
                <a:ahLst/>
                <a:rect l="l" t="t" r="r" b="b"/>
                <a:pathLst>
                  <a:path w="545" h="1326">
                    <a:moveTo>
                      <a:pt x="378" y="0"/>
                    </a:moveTo>
                    <a:cubicBezTo>
                      <a:pt x="343" y="14"/>
                      <a:pt x="283" y="35"/>
                      <a:pt x="232" y="82"/>
                    </a:cubicBezTo>
                    <a:cubicBezTo>
                      <a:pt x="181" y="129"/>
                      <a:pt x="106" y="219"/>
                      <a:pt x="70" y="285"/>
                    </a:cubicBezTo>
                    <a:cubicBezTo>
                      <a:pt x="34" y="351"/>
                      <a:pt x="27" y="419"/>
                      <a:pt x="16" y="478"/>
                    </a:cubicBezTo>
                    <a:cubicBezTo>
                      <a:pt x="5" y="537"/>
                      <a:pt x="2" y="592"/>
                      <a:pt x="1" y="640"/>
                    </a:cubicBezTo>
                    <a:cubicBezTo>
                      <a:pt x="0" y="688"/>
                      <a:pt x="3" y="710"/>
                      <a:pt x="10" y="765"/>
                    </a:cubicBezTo>
                    <a:cubicBezTo>
                      <a:pt x="17" y="820"/>
                      <a:pt x="23" y="909"/>
                      <a:pt x="43" y="970"/>
                    </a:cubicBezTo>
                    <a:cubicBezTo>
                      <a:pt x="63" y="1031"/>
                      <a:pt x="100" y="1084"/>
                      <a:pt x="133" y="1129"/>
                    </a:cubicBezTo>
                    <a:cubicBezTo>
                      <a:pt x="166" y="1174"/>
                      <a:pt x="204" y="1211"/>
                      <a:pt x="238" y="1240"/>
                    </a:cubicBezTo>
                    <a:cubicBezTo>
                      <a:pt x="272" y="1269"/>
                      <a:pt x="301" y="1286"/>
                      <a:pt x="334" y="1300"/>
                    </a:cubicBezTo>
                    <a:cubicBezTo>
                      <a:pt x="367" y="1314"/>
                      <a:pt x="409" y="1326"/>
                      <a:pt x="439" y="1324"/>
                    </a:cubicBezTo>
                    <a:cubicBezTo>
                      <a:pt x="469" y="1322"/>
                      <a:pt x="497" y="1306"/>
                      <a:pt x="514" y="1288"/>
                    </a:cubicBezTo>
                    <a:cubicBezTo>
                      <a:pt x="531" y="1270"/>
                      <a:pt x="538" y="1247"/>
                      <a:pt x="541" y="1213"/>
                    </a:cubicBezTo>
                    <a:cubicBezTo>
                      <a:pt x="544" y="1179"/>
                      <a:pt x="542" y="1133"/>
                      <a:pt x="535" y="1081"/>
                    </a:cubicBezTo>
                    <a:cubicBezTo>
                      <a:pt x="528" y="1029"/>
                      <a:pt x="512" y="953"/>
                      <a:pt x="502" y="901"/>
                    </a:cubicBezTo>
                    <a:cubicBezTo>
                      <a:pt x="492" y="849"/>
                      <a:pt x="481" y="809"/>
                      <a:pt x="475" y="766"/>
                    </a:cubicBezTo>
                    <a:cubicBezTo>
                      <a:pt x="469" y="723"/>
                      <a:pt x="463" y="687"/>
                      <a:pt x="463" y="643"/>
                    </a:cubicBezTo>
                    <a:cubicBezTo>
                      <a:pt x="463" y="599"/>
                      <a:pt x="468" y="549"/>
                      <a:pt x="475" y="502"/>
                    </a:cubicBezTo>
                    <a:cubicBezTo>
                      <a:pt x="482" y="455"/>
                      <a:pt x="494" y="409"/>
                      <a:pt x="505" y="361"/>
                    </a:cubicBezTo>
                    <a:cubicBezTo>
                      <a:pt x="516" y="313"/>
                      <a:pt x="537" y="261"/>
                      <a:pt x="541" y="214"/>
                    </a:cubicBezTo>
                    <a:cubicBezTo>
                      <a:pt x="545" y="167"/>
                      <a:pt x="543" y="112"/>
                      <a:pt x="529" y="79"/>
                    </a:cubicBezTo>
                    <a:cubicBezTo>
                      <a:pt x="515" y="46"/>
                      <a:pt x="479" y="29"/>
                      <a:pt x="454" y="16"/>
                    </a:cubicBezTo>
                    <a:cubicBezTo>
                      <a:pt x="429" y="3"/>
                      <a:pt x="394" y="3"/>
                      <a:pt x="378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39160" y="4790880"/>
                <a:ext cx="54720" cy="531360"/>
              </a:xfrm>
              <a:custGeom>
                <a:avLst/>
                <a:gdLst/>
                <a:ahLst/>
                <a:rect l="l" t="t" r="r" b="b"/>
                <a:pathLst>
                  <a:path w="78" h="885">
                    <a:moveTo>
                      <a:pt x="76" y="19"/>
                    </a:moveTo>
                    <a:cubicBezTo>
                      <a:pt x="71" y="0"/>
                      <a:pt x="48" y="112"/>
                      <a:pt x="37" y="157"/>
                    </a:cubicBezTo>
                    <a:cubicBezTo>
                      <a:pt x="26" y="202"/>
                      <a:pt x="16" y="244"/>
                      <a:pt x="10" y="292"/>
                    </a:cubicBezTo>
                    <a:cubicBezTo>
                      <a:pt x="4" y="340"/>
                      <a:pt x="0" y="392"/>
                      <a:pt x="1" y="448"/>
                    </a:cubicBezTo>
                    <a:cubicBezTo>
                      <a:pt x="2" y="504"/>
                      <a:pt x="9" y="573"/>
                      <a:pt x="19" y="631"/>
                    </a:cubicBezTo>
                    <a:cubicBezTo>
                      <a:pt x="29" y="689"/>
                      <a:pt x="55" y="754"/>
                      <a:pt x="64" y="796"/>
                    </a:cubicBezTo>
                    <a:cubicBezTo>
                      <a:pt x="73" y="838"/>
                      <a:pt x="71" y="885"/>
                      <a:pt x="73" y="883"/>
                    </a:cubicBezTo>
                    <a:cubicBezTo>
                      <a:pt x="75" y="881"/>
                      <a:pt x="76" y="822"/>
                      <a:pt x="76" y="784"/>
                    </a:cubicBezTo>
                    <a:cubicBezTo>
                      <a:pt x="76" y="746"/>
                      <a:pt x="78" y="703"/>
                      <a:pt x="76" y="652"/>
                    </a:cubicBezTo>
                    <a:cubicBezTo>
                      <a:pt x="74" y="601"/>
                      <a:pt x="65" y="538"/>
                      <a:pt x="64" y="475"/>
                    </a:cubicBezTo>
                    <a:cubicBezTo>
                      <a:pt x="63" y="412"/>
                      <a:pt x="68" y="347"/>
                      <a:pt x="70" y="271"/>
                    </a:cubicBezTo>
                    <a:cubicBezTo>
                      <a:pt x="72" y="195"/>
                      <a:pt x="75" y="71"/>
                      <a:pt x="76" y="1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3589920" y="4785480"/>
                <a:ext cx="54720" cy="531360"/>
              </a:xfrm>
              <a:custGeom>
                <a:avLst/>
                <a:gdLst/>
                <a:ahLst/>
                <a:rect l="l" t="t" r="r" b="b"/>
                <a:pathLst>
                  <a:path w="78" h="885">
                    <a:moveTo>
                      <a:pt x="76" y="19"/>
                    </a:moveTo>
                    <a:cubicBezTo>
                      <a:pt x="71" y="0"/>
                      <a:pt x="48" y="112"/>
                      <a:pt x="37" y="157"/>
                    </a:cubicBezTo>
                    <a:cubicBezTo>
                      <a:pt x="26" y="202"/>
                      <a:pt x="16" y="244"/>
                      <a:pt x="10" y="292"/>
                    </a:cubicBezTo>
                    <a:cubicBezTo>
                      <a:pt x="4" y="340"/>
                      <a:pt x="0" y="392"/>
                      <a:pt x="1" y="448"/>
                    </a:cubicBezTo>
                    <a:cubicBezTo>
                      <a:pt x="2" y="504"/>
                      <a:pt x="9" y="573"/>
                      <a:pt x="19" y="631"/>
                    </a:cubicBezTo>
                    <a:cubicBezTo>
                      <a:pt x="29" y="689"/>
                      <a:pt x="55" y="754"/>
                      <a:pt x="64" y="796"/>
                    </a:cubicBezTo>
                    <a:cubicBezTo>
                      <a:pt x="73" y="838"/>
                      <a:pt x="71" y="885"/>
                      <a:pt x="73" y="883"/>
                    </a:cubicBezTo>
                    <a:cubicBezTo>
                      <a:pt x="75" y="881"/>
                      <a:pt x="76" y="822"/>
                      <a:pt x="76" y="784"/>
                    </a:cubicBezTo>
                    <a:cubicBezTo>
                      <a:pt x="76" y="746"/>
                      <a:pt x="78" y="703"/>
                      <a:pt x="76" y="652"/>
                    </a:cubicBezTo>
                    <a:cubicBezTo>
                      <a:pt x="74" y="601"/>
                      <a:pt x="65" y="538"/>
                      <a:pt x="64" y="475"/>
                    </a:cubicBezTo>
                    <a:cubicBezTo>
                      <a:pt x="63" y="412"/>
                      <a:pt x="68" y="347"/>
                      <a:pt x="70" y="271"/>
                    </a:cubicBezTo>
                    <a:cubicBezTo>
                      <a:pt x="72" y="195"/>
                      <a:pt x="75" y="71"/>
                      <a:pt x="76" y="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3065400" y="4559400"/>
                <a:ext cx="1001880" cy="988920"/>
                <a:chOff x="3065400" y="4559400"/>
                <a:chExt cx="1001880" cy="9889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65400" y="4568040"/>
                  <a:ext cx="355680" cy="477360"/>
                </a:xfrm>
                <a:custGeom>
                  <a:avLst/>
                  <a:gdLst/>
                  <a:ahLst/>
                  <a:rect l="l" t="t" r="r" b="b"/>
                  <a:pathLst>
                    <a:path w="506" h="795">
                      <a:moveTo>
                        <a:pt x="453" y="0"/>
                      </a:moveTo>
                      <a:cubicBezTo>
                        <a:pt x="461" y="25"/>
                        <a:pt x="469" y="50"/>
                        <a:pt x="477" y="69"/>
                      </a:cubicBezTo>
                      <a:cubicBezTo>
                        <a:pt x="485" y="88"/>
                        <a:pt x="502" y="100"/>
                        <a:pt x="504" y="114"/>
                      </a:cubicBezTo>
                      <a:cubicBezTo>
                        <a:pt x="506" y="128"/>
                        <a:pt x="505" y="141"/>
                        <a:pt x="492" y="153"/>
                      </a:cubicBezTo>
                      <a:cubicBezTo>
                        <a:pt x="479" y="165"/>
                        <a:pt x="448" y="168"/>
                        <a:pt x="423" y="186"/>
                      </a:cubicBezTo>
                      <a:cubicBezTo>
                        <a:pt x="398" y="204"/>
                        <a:pt x="371" y="227"/>
                        <a:pt x="342" y="264"/>
                      </a:cubicBezTo>
                      <a:cubicBezTo>
                        <a:pt x="313" y="301"/>
                        <a:pt x="270" y="357"/>
                        <a:pt x="246" y="408"/>
                      </a:cubicBezTo>
                      <a:cubicBezTo>
                        <a:pt x="222" y="459"/>
                        <a:pt x="209" y="521"/>
                        <a:pt x="195" y="573"/>
                      </a:cubicBezTo>
                      <a:cubicBezTo>
                        <a:pt x="181" y="625"/>
                        <a:pt x="179" y="691"/>
                        <a:pt x="162" y="723"/>
                      </a:cubicBezTo>
                      <a:cubicBezTo>
                        <a:pt x="145" y="755"/>
                        <a:pt x="120" y="753"/>
                        <a:pt x="93" y="765"/>
                      </a:cubicBezTo>
                      <a:cubicBezTo>
                        <a:pt x="66" y="777"/>
                        <a:pt x="33" y="786"/>
                        <a:pt x="0" y="79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04880" y="4559400"/>
                  <a:ext cx="379800" cy="119160"/>
                </a:xfrm>
                <a:custGeom>
                  <a:avLst/>
                  <a:gdLst/>
                  <a:ahLst/>
                  <a:rect l="l" t="t" r="r" b="b"/>
                  <a:pathLst>
                    <a:path w="540" h="199">
                      <a:moveTo>
                        <a:pt x="0" y="0"/>
                      </a:moveTo>
                      <a:cubicBezTo>
                        <a:pt x="9" y="29"/>
                        <a:pt x="19" y="58"/>
                        <a:pt x="30" y="81"/>
                      </a:cubicBezTo>
                      <a:cubicBezTo>
                        <a:pt x="41" y="104"/>
                        <a:pt x="47" y="128"/>
                        <a:pt x="66" y="138"/>
                      </a:cubicBezTo>
                      <a:cubicBezTo>
                        <a:pt x="85" y="148"/>
                        <a:pt x="119" y="139"/>
                        <a:pt x="144" y="144"/>
                      </a:cubicBezTo>
                      <a:cubicBezTo>
                        <a:pt x="169" y="149"/>
                        <a:pt x="200" y="160"/>
                        <a:pt x="219" y="168"/>
                      </a:cubicBezTo>
                      <a:cubicBezTo>
                        <a:pt x="238" y="176"/>
                        <a:pt x="251" y="191"/>
                        <a:pt x="261" y="195"/>
                      </a:cubicBezTo>
                      <a:cubicBezTo>
                        <a:pt x="271" y="199"/>
                        <a:pt x="270" y="197"/>
                        <a:pt x="279" y="192"/>
                      </a:cubicBezTo>
                      <a:cubicBezTo>
                        <a:pt x="288" y="187"/>
                        <a:pt x="300" y="171"/>
                        <a:pt x="318" y="162"/>
                      </a:cubicBezTo>
                      <a:cubicBezTo>
                        <a:pt x="336" y="153"/>
                        <a:pt x="365" y="139"/>
                        <a:pt x="387" y="135"/>
                      </a:cubicBezTo>
                      <a:cubicBezTo>
                        <a:pt x="409" y="131"/>
                        <a:pt x="433" y="139"/>
                        <a:pt x="450" y="138"/>
                      </a:cubicBezTo>
                      <a:cubicBezTo>
                        <a:pt x="467" y="137"/>
                        <a:pt x="479" y="142"/>
                        <a:pt x="489" y="129"/>
                      </a:cubicBezTo>
                      <a:cubicBezTo>
                        <a:pt x="499" y="116"/>
                        <a:pt x="504" y="82"/>
                        <a:pt x="513" y="60"/>
                      </a:cubicBezTo>
                      <a:cubicBezTo>
                        <a:pt x="522" y="38"/>
                        <a:pt x="531" y="19"/>
                        <a:pt x="54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65960" y="4564440"/>
                  <a:ext cx="286920" cy="324720"/>
                </a:xfrm>
                <a:custGeom>
                  <a:avLst/>
                  <a:gdLst/>
                  <a:ahLst/>
                  <a:rect l="l" t="t" r="r" b="b"/>
                  <a:pathLst>
                    <a:path w="408" h="541">
                      <a:moveTo>
                        <a:pt x="66" y="0"/>
                      </a:moveTo>
                      <a:cubicBezTo>
                        <a:pt x="48" y="29"/>
                        <a:pt x="30" y="58"/>
                        <a:pt x="21" y="81"/>
                      </a:cubicBezTo>
                      <a:cubicBezTo>
                        <a:pt x="12" y="104"/>
                        <a:pt x="0" y="119"/>
                        <a:pt x="12" y="141"/>
                      </a:cubicBezTo>
                      <a:cubicBezTo>
                        <a:pt x="24" y="163"/>
                        <a:pt x="67" y="191"/>
                        <a:pt x="93" y="213"/>
                      </a:cubicBezTo>
                      <a:cubicBezTo>
                        <a:pt x="119" y="235"/>
                        <a:pt x="141" y="241"/>
                        <a:pt x="168" y="273"/>
                      </a:cubicBezTo>
                      <a:cubicBezTo>
                        <a:pt x="195" y="305"/>
                        <a:pt x="236" y="367"/>
                        <a:pt x="258" y="408"/>
                      </a:cubicBezTo>
                      <a:cubicBezTo>
                        <a:pt x="280" y="449"/>
                        <a:pt x="291" y="497"/>
                        <a:pt x="300" y="519"/>
                      </a:cubicBezTo>
                      <a:cubicBezTo>
                        <a:pt x="309" y="541"/>
                        <a:pt x="305" y="536"/>
                        <a:pt x="309" y="537"/>
                      </a:cubicBezTo>
                      <a:cubicBezTo>
                        <a:pt x="313" y="538"/>
                        <a:pt x="316" y="536"/>
                        <a:pt x="324" y="525"/>
                      </a:cubicBezTo>
                      <a:cubicBezTo>
                        <a:pt x="332" y="514"/>
                        <a:pt x="346" y="488"/>
                        <a:pt x="360" y="471"/>
                      </a:cubicBezTo>
                      <a:cubicBezTo>
                        <a:pt x="374" y="454"/>
                        <a:pt x="399" y="433"/>
                        <a:pt x="408" y="42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936600" y="4833000"/>
                  <a:ext cx="130680" cy="594360"/>
                </a:xfrm>
                <a:custGeom>
                  <a:avLst/>
                  <a:gdLst/>
                  <a:ahLst/>
                  <a:rect l="l" t="t" r="r" b="b"/>
                  <a:pathLst>
                    <a:path w="186" h="990">
                      <a:moveTo>
                        <a:pt x="186" y="0"/>
                      </a:moveTo>
                      <a:cubicBezTo>
                        <a:pt x="161" y="23"/>
                        <a:pt x="137" y="47"/>
                        <a:pt x="123" y="66"/>
                      </a:cubicBezTo>
                      <a:cubicBezTo>
                        <a:pt x="109" y="85"/>
                        <a:pt x="105" y="105"/>
                        <a:pt x="99" y="117"/>
                      </a:cubicBezTo>
                      <a:cubicBezTo>
                        <a:pt x="93" y="129"/>
                        <a:pt x="82" y="119"/>
                        <a:pt x="84" y="141"/>
                      </a:cubicBezTo>
                      <a:cubicBezTo>
                        <a:pt x="86" y="163"/>
                        <a:pt x="103" y="198"/>
                        <a:pt x="108" y="249"/>
                      </a:cubicBezTo>
                      <a:cubicBezTo>
                        <a:pt x="113" y="300"/>
                        <a:pt x="114" y="394"/>
                        <a:pt x="114" y="447"/>
                      </a:cubicBezTo>
                      <a:cubicBezTo>
                        <a:pt x="114" y="500"/>
                        <a:pt x="111" y="531"/>
                        <a:pt x="105" y="570"/>
                      </a:cubicBezTo>
                      <a:cubicBezTo>
                        <a:pt x="99" y="609"/>
                        <a:pt x="86" y="650"/>
                        <a:pt x="75" y="684"/>
                      </a:cubicBezTo>
                      <a:cubicBezTo>
                        <a:pt x="64" y="718"/>
                        <a:pt x="48" y="748"/>
                        <a:pt x="36" y="774"/>
                      </a:cubicBezTo>
                      <a:cubicBezTo>
                        <a:pt x="24" y="800"/>
                        <a:pt x="6" y="820"/>
                        <a:pt x="3" y="840"/>
                      </a:cubicBezTo>
                      <a:cubicBezTo>
                        <a:pt x="0" y="860"/>
                        <a:pt x="5" y="879"/>
                        <a:pt x="15" y="897"/>
                      </a:cubicBezTo>
                      <a:cubicBezTo>
                        <a:pt x="25" y="915"/>
                        <a:pt x="50" y="932"/>
                        <a:pt x="63" y="948"/>
                      </a:cubicBezTo>
                      <a:cubicBezTo>
                        <a:pt x="76" y="964"/>
                        <a:pt x="88" y="983"/>
                        <a:pt x="93" y="9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430080" y="5376240"/>
                  <a:ext cx="555120" cy="172080"/>
                </a:xfrm>
                <a:custGeom>
                  <a:avLst/>
                  <a:gdLst/>
                  <a:ahLst/>
                  <a:rect l="l" t="t" r="r" b="b"/>
                  <a:pathLst>
                    <a:path w="789" h="287">
                      <a:moveTo>
                        <a:pt x="789" y="113"/>
                      </a:moveTo>
                      <a:cubicBezTo>
                        <a:pt x="770" y="88"/>
                        <a:pt x="748" y="68"/>
                        <a:pt x="732" y="50"/>
                      </a:cubicBezTo>
                      <a:cubicBezTo>
                        <a:pt x="716" y="32"/>
                        <a:pt x="706" y="10"/>
                        <a:pt x="690" y="5"/>
                      </a:cubicBezTo>
                      <a:cubicBezTo>
                        <a:pt x="674" y="0"/>
                        <a:pt x="658" y="6"/>
                        <a:pt x="636" y="23"/>
                      </a:cubicBezTo>
                      <a:cubicBezTo>
                        <a:pt x="614" y="40"/>
                        <a:pt x="587" y="81"/>
                        <a:pt x="555" y="104"/>
                      </a:cubicBezTo>
                      <a:cubicBezTo>
                        <a:pt x="523" y="127"/>
                        <a:pt x="478" y="148"/>
                        <a:pt x="444" y="161"/>
                      </a:cubicBezTo>
                      <a:cubicBezTo>
                        <a:pt x="410" y="174"/>
                        <a:pt x="379" y="180"/>
                        <a:pt x="351" y="179"/>
                      </a:cubicBezTo>
                      <a:cubicBezTo>
                        <a:pt x="323" y="178"/>
                        <a:pt x="293" y="161"/>
                        <a:pt x="273" y="152"/>
                      </a:cubicBezTo>
                      <a:cubicBezTo>
                        <a:pt x="253" y="143"/>
                        <a:pt x="243" y="125"/>
                        <a:pt x="231" y="125"/>
                      </a:cubicBezTo>
                      <a:cubicBezTo>
                        <a:pt x="219" y="125"/>
                        <a:pt x="215" y="142"/>
                        <a:pt x="198" y="152"/>
                      </a:cubicBezTo>
                      <a:cubicBezTo>
                        <a:pt x="181" y="162"/>
                        <a:pt x="150" y="180"/>
                        <a:pt x="129" y="185"/>
                      </a:cubicBezTo>
                      <a:cubicBezTo>
                        <a:pt x="108" y="190"/>
                        <a:pt x="88" y="174"/>
                        <a:pt x="69" y="185"/>
                      </a:cubicBezTo>
                      <a:cubicBezTo>
                        <a:pt x="50" y="196"/>
                        <a:pt x="29" y="234"/>
                        <a:pt x="18" y="251"/>
                      </a:cubicBezTo>
                      <a:cubicBezTo>
                        <a:pt x="7" y="268"/>
                        <a:pt x="3" y="277"/>
                        <a:pt x="0" y="28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071520" y="5039640"/>
                  <a:ext cx="369360" cy="499680"/>
                </a:xfrm>
                <a:custGeom>
                  <a:avLst/>
                  <a:gdLst/>
                  <a:ahLst/>
                  <a:rect l="l" t="t" r="r" b="b"/>
                  <a:pathLst>
                    <a:path w="525" h="832">
                      <a:moveTo>
                        <a:pt x="0" y="52"/>
                      </a:moveTo>
                      <a:cubicBezTo>
                        <a:pt x="35" y="39"/>
                        <a:pt x="70" y="27"/>
                        <a:pt x="96" y="22"/>
                      </a:cubicBezTo>
                      <a:cubicBezTo>
                        <a:pt x="122" y="17"/>
                        <a:pt x="148" y="0"/>
                        <a:pt x="159" y="22"/>
                      </a:cubicBezTo>
                      <a:cubicBezTo>
                        <a:pt x="170" y="44"/>
                        <a:pt x="155" y="101"/>
                        <a:pt x="159" y="151"/>
                      </a:cubicBezTo>
                      <a:cubicBezTo>
                        <a:pt x="163" y="201"/>
                        <a:pt x="172" y="276"/>
                        <a:pt x="183" y="322"/>
                      </a:cubicBezTo>
                      <a:cubicBezTo>
                        <a:pt x="194" y="368"/>
                        <a:pt x="204" y="390"/>
                        <a:pt x="225" y="430"/>
                      </a:cubicBezTo>
                      <a:cubicBezTo>
                        <a:pt x="246" y="470"/>
                        <a:pt x="276" y="524"/>
                        <a:pt x="306" y="562"/>
                      </a:cubicBezTo>
                      <a:cubicBezTo>
                        <a:pt x="336" y="600"/>
                        <a:pt x="372" y="632"/>
                        <a:pt x="402" y="658"/>
                      </a:cubicBezTo>
                      <a:cubicBezTo>
                        <a:pt x="432" y="684"/>
                        <a:pt x="469" y="704"/>
                        <a:pt x="489" y="718"/>
                      </a:cubicBezTo>
                      <a:cubicBezTo>
                        <a:pt x="509" y="732"/>
                        <a:pt x="519" y="734"/>
                        <a:pt x="522" y="745"/>
                      </a:cubicBezTo>
                      <a:cubicBezTo>
                        <a:pt x="525" y="756"/>
                        <a:pt x="517" y="770"/>
                        <a:pt x="510" y="784"/>
                      </a:cubicBezTo>
                      <a:cubicBezTo>
                        <a:pt x="503" y="798"/>
                        <a:pt x="484" y="822"/>
                        <a:pt x="477" y="83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3272040" y="5108760"/>
                <a:ext cx="58320" cy="496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377520" y="5150160"/>
                <a:ext cx="58320" cy="496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54120" y="5234760"/>
                <a:ext cx="58320" cy="496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12520" y="5368320"/>
                <a:ext cx="58320" cy="496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62120" y="5150160"/>
                <a:ext cx="58320" cy="4968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98760" y="5332320"/>
                <a:ext cx="58320" cy="496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419640" y="4899600"/>
                <a:ext cx="58320" cy="4968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252960" y="4959000"/>
                <a:ext cx="58320" cy="4968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72560" y="5292720"/>
                <a:ext cx="58320" cy="4968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74720" y="4784400"/>
                <a:ext cx="58320" cy="4968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26760" y="4827600"/>
                <a:ext cx="58320" cy="4968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87960" y="4732200"/>
                <a:ext cx="58320" cy="49680"/>
              </a:xfrm>
              <a:prstGeom prst="ellips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70400" y="4689000"/>
                <a:ext cx="58320" cy="49680"/>
              </a:xfrm>
              <a:prstGeom prst="ellips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72800" y="5131080"/>
                <a:ext cx="58320" cy="49680"/>
              </a:xfrm>
              <a:prstGeom prst="ellipse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85680" y="5197680"/>
                <a:ext cx="58320" cy="49680"/>
              </a:xfrm>
              <a:prstGeom prst="ellips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818520" y="5221080"/>
                <a:ext cx="58320" cy="49680"/>
              </a:xfrm>
              <a:prstGeom prst="ellips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76680" y="5358600"/>
                <a:ext cx="58320" cy="49680"/>
              </a:xfrm>
              <a:prstGeom prst="ellips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94480" y="5060160"/>
                <a:ext cx="58320" cy="49680"/>
              </a:xfrm>
              <a:prstGeom prst="ellips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01880" y="5067360"/>
                <a:ext cx="58320" cy="49680"/>
              </a:xfrm>
              <a:prstGeom prst="ellipse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49040" y="5273280"/>
                <a:ext cx="58320" cy="49680"/>
              </a:xfrm>
              <a:prstGeom prst="ellips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91160" y="4813920"/>
                <a:ext cx="58320" cy="49680"/>
              </a:xfrm>
              <a:prstGeom prst="ellipse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89280" y="4808520"/>
                <a:ext cx="58320" cy="4968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13040" y="4715280"/>
                <a:ext cx="58320" cy="49680"/>
              </a:xfrm>
              <a:prstGeom prst="ellips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21720" y="4974120"/>
                <a:ext cx="154440" cy="127800"/>
              </a:xfrm>
              <a:custGeom>
                <a:avLst/>
                <a:gdLst/>
                <a:ahLst/>
                <a:rect l="l" t="t" r="r" b="b"/>
                <a:pathLst>
                  <a:path w="220" h="213">
                    <a:moveTo>
                      <a:pt x="124" y="2"/>
                    </a:moveTo>
                    <a:cubicBezTo>
                      <a:pt x="99" y="0"/>
                      <a:pt x="69" y="9"/>
                      <a:pt x="49" y="26"/>
                    </a:cubicBezTo>
                    <a:cubicBezTo>
                      <a:pt x="29" y="43"/>
                      <a:pt x="6" y="78"/>
                      <a:pt x="3" y="103"/>
                    </a:cubicBezTo>
                    <a:cubicBezTo>
                      <a:pt x="0" y="128"/>
                      <a:pt x="16" y="162"/>
                      <a:pt x="28" y="179"/>
                    </a:cubicBezTo>
                    <a:cubicBezTo>
                      <a:pt x="40" y="196"/>
                      <a:pt x="59" y="203"/>
                      <a:pt x="78" y="208"/>
                    </a:cubicBezTo>
                    <a:cubicBezTo>
                      <a:pt x="97" y="213"/>
                      <a:pt x="124" y="213"/>
                      <a:pt x="145" y="208"/>
                    </a:cubicBezTo>
                    <a:cubicBezTo>
                      <a:pt x="166" y="203"/>
                      <a:pt x="190" y="196"/>
                      <a:pt x="202" y="179"/>
                    </a:cubicBezTo>
                    <a:cubicBezTo>
                      <a:pt x="214" y="162"/>
                      <a:pt x="220" y="126"/>
                      <a:pt x="220" y="103"/>
                    </a:cubicBezTo>
                    <a:cubicBezTo>
                      <a:pt x="220" y="80"/>
                      <a:pt x="218" y="55"/>
                      <a:pt x="202" y="38"/>
                    </a:cubicBezTo>
                    <a:cubicBezTo>
                      <a:pt x="186" y="21"/>
                      <a:pt x="147" y="6"/>
                      <a:pt x="124" y="2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741120" y="4905720"/>
                <a:ext cx="154440" cy="127800"/>
              </a:xfrm>
              <a:custGeom>
                <a:avLst/>
                <a:gdLst/>
                <a:ahLst/>
                <a:rect l="l" t="t" r="r" b="b"/>
                <a:pathLst>
                  <a:path w="220" h="213">
                    <a:moveTo>
                      <a:pt x="124" y="2"/>
                    </a:moveTo>
                    <a:cubicBezTo>
                      <a:pt x="99" y="0"/>
                      <a:pt x="69" y="9"/>
                      <a:pt x="49" y="26"/>
                    </a:cubicBezTo>
                    <a:cubicBezTo>
                      <a:pt x="29" y="43"/>
                      <a:pt x="6" y="78"/>
                      <a:pt x="3" y="103"/>
                    </a:cubicBezTo>
                    <a:cubicBezTo>
                      <a:pt x="0" y="128"/>
                      <a:pt x="16" y="162"/>
                      <a:pt x="28" y="179"/>
                    </a:cubicBezTo>
                    <a:cubicBezTo>
                      <a:pt x="40" y="196"/>
                      <a:pt x="59" y="203"/>
                      <a:pt x="78" y="208"/>
                    </a:cubicBezTo>
                    <a:cubicBezTo>
                      <a:pt x="97" y="213"/>
                      <a:pt x="124" y="213"/>
                      <a:pt x="145" y="208"/>
                    </a:cubicBezTo>
                    <a:cubicBezTo>
                      <a:pt x="166" y="203"/>
                      <a:pt x="190" y="196"/>
                      <a:pt x="202" y="179"/>
                    </a:cubicBezTo>
                    <a:cubicBezTo>
                      <a:pt x="214" y="162"/>
                      <a:pt x="220" y="126"/>
                      <a:pt x="220" y="103"/>
                    </a:cubicBezTo>
                    <a:cubicBezTo>
                      <a:pt x="220" y="80"/>
                      <a:pt x="218" y="55"/>
                      <a:pt x="202" y="38"/>
                    </a:cubicBezTo>
                    <a:cubicBezTo>
                      <a:pt x="186" y="21"/>
                      <a:pt x="147" y="6"/>
                      <a:pt x="124" y="2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157920" y="5552640"/>
              <a:ext cx="8874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mata clo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36400" y="4585320"/>
              <a:ext cx="1065960" cy="965160"/>
              <a:chOff x="4136400" y="4585320"/>
              <a:chExt cx="1065960" cy="96516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2160" y="4684320"/>
                <a:ext cx="444240" cy="753120"/>
              </a:xfrm>
              <a:custGeom>
                <a:avLst/>
                <a:gdLst/>
                <a:ahLst/>
                <a:rect l="l" t="t" r="r" b="b"/>
                <a:pathLst>
                  <a:path w="635" h="1259">
                    <a:moveTo>
                      <a:pt x="441" y="0"/>
                    </a:moveTo>
                    <a:cubicBezTo>
                      <a:pt x="401" y="13"/>
                      <a:pt x="333" y="33"/>
                      <a:pt x="275" y="78"/>
                    </a:cubicBezTo>
                    <a:cubicBezTo>
                      <a:pt x="216" y="122"/>
                      <a:pt x="131" y="208"/>
                      <a:pt x="89" y="271"/>
                    </a:cubicBezTo>
                    <a:cubicBezTo>
                      <a:pt x="47" y="334"/>
                      <a:pt x="32" y="399"/>
                      <a:pt x="17" y="455"/>
                    </a:cubicBezTo>
                    <a:cubicBezTo>
                      <a:pt x="2" y="511"/>
                      <a:pt x="2" y="562"/>
                      <a:pt x="1" y="608"/>
                    </a:cubicBezTo>
                    <a:cubicBezTo>
                      <a:pt x="0" y="654"/>
                      <a:pt x="1" y="679"/>
                      <a:pt x="11" y="731"/>
                    </a:cubicBezTo>
                    <a:cubicBezTo>
                      <a:pt x="20" y="783"/>
                      <a:pt x="33" y="864"/>
                      <a:pt x="58" y="921"/>
                    </a:cubicBezTo>
                    <a:cubicBezTo>
                      <a:pt x="84" y="978"/>
                      <a:pt x="124" y="1029"/>
                      <a:pt x="161" y="1072"/>
                    </a:cubicBezTo>
                    <a:cubicBezTo>
                      <a:pt x="199" y="1115"/>
                      <a:pt x="243" y="1150"/>
                      <a:pt x="281" y="1177"/>
                    </a:cubicBezTo>
                    <a:cubicBezTo>
                      <a:pt x="320" y="1205"/>
                      <a:pt x="353" y="1221"/>
                      <a:pt x="391" y="1234"/>
                    </a:cubicBezTo>
                    <a:cubicBezTo>
                      <a:pt x="428" y="1248"/>
                      <a:pt x="477" y="1259"/>
                      <a:pt x="511" y="1257"/>
                    </a:cubicBezTo>
                    <a:cubicBezTo>
                      <a:pt x="545" y="1255"/>
                      <a:pt x="577" y="1240"/>
                      <a:pt x="597" y="1223"/>
                    </a:cubicBezTo>
                    <a:cubicBezTo>
                      <a:pt x="616" y="1206"/>
                      <a:pt x="624" y="1184"/>
                      <a:pt x="628" y="1152"/>
                    </a:cubicBezTo>
                    <a:cubicBezTo>
                      <a:pt x="631" y="1119"/>
                      <a:pt x="635" y="1076"/>
                      <a:pt x="620" y="1026"/>
                    </a:cubicBezTo>
                    <a:cubicBezTo>
                      <a:pt x="605" y="976"/>
                      <a:pt x="558" y="897"/>
                      <a:pt x="538" y="851"/>
                    </a:cubicBezTo>
                    <a:cubicBezTo>
                      <a:pt x="518" y="805"/>
                      <a:pt x="508" y="790"/>
                      <a:pt x="499" y="749"/>
                    </a:cubicBezTo>
                    <a:cubicBezTo>
                      <a:pt x="490" y="708"/>
                      <a:pt x="480" y="657"/>
                      <a:pt x="484" y="605"/>
                    </a:cubicBezTo>
                    <a:cubicBezTo>
                      <a:pt x="488" y="553"/>
                      <a:pt x="508" y="481"/>
                      <a:pt x="523" y="434"/>
                    </a:cubicBezTo>
                    <a:cubicBezTo>
                      <a:pt x="538" y="387"/>
                      <a:pt x="559" y="358"/>
                      <a:pt x="577" y="320"/>
                    </a:cubicBezTo>
                    <a:cubicBezTo>
                      <a:pt x="595" y="282"/>
                      <a:pt x="622" y="244"/>
                      <a:pt x="628" y="203"/>
                    </a:cubicBezTo>
                    <a:cubicBezTo>
                      <a:pt x="634" y="162"/>
                      <a:pt x="630" y="106"/>
                      <a:pt x="614" y="75"/>
                    </a:cubicBezTo>
                    <a:cubicBezTo>
                      <a:pt x="598" y="44"/>
                      <a:pt x="557" y="28"/>
                      <a:pt x="528" y="15"/>
                    </a:cubicBezTo>
                    <a:cubicBezTo>
                      <a:pt x="499" y="3"/>
                      <a:pt x="459" y="3"/>
                      <a:pt x="44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679280" y="4691520"/>
                <a:ext cx="444240" cy="753120"/>
              </a:xfrm>
              <a:custGeom>
                <a:avLst/>
                <a:gdLst/>
                <a:ahLst/>
                <a:rect l="l" t="t" r="r" b="b"/>
                <a:pathLst>
                  <a:path w="635" h="1259">
                    <a:moveTo>
                      <a:pt x="441" y="0"/>
                    </a:moveTo>
                    <a:cubicBezTo>
                      <a:pt x="401" y="13"/>
                      <a:pt x="333" y="33"/>
                      <a:pt x="275" y="78"/>
                    </a:cubicBezTo>
                    <a:cubicBezTo>
                      <a:pt x="216" y="122"/>
                      <a:pt x="131" y="208"/>
                      <a:pt x="89" y="271"/>
                    </a:cubicBezTo>
                    <a:cubicBezTo>
                      <a:pt x="47" y="334"/>
                      <a:pt x="32" y="399"/>
                      <a:pt x="17" y="455"/>
                    </a:cubicBezTo>
                    <a:cubicBezTo>
                      <a:pt x="2" y="511"/>
                      <a:pt x="2" y="562"/>
                      <a:pt x="1" y="608"/>
                    </a:cubicBezTo>
                    <a:cubicBezTo>
                      <a:pt x="0" y="654"/>
                      <a:pt x="1" y="679"/>
                      <a:pt x="11" y="731"/>
                    </a:cubicBezTo>
                    <a:cubicBezTo>
                      <a:pt x="20" y="783"/>
                      <a:pt x="33" y="864"/>
                      <a:pt x="58" y="921"/>
                    </a:cubicBezTo>
                    <a:cubicBezTo>
                      <a:pt x="84" y="978"/>
                      <a:pt x="124" y="1029"/>
                      <a:pt x="161" y="1072"/>
                    </a:cubicBezTo>
                    <a:cubicBezTo>
                      <a:pt x="199" y="1115"/>
                      <a:pt x="243" y="1150"/>
                      <a:pt x="281" y="1177"/>
                    </a:cubicBezTo>
                    <a:cubicBezTo>
                      <a:pt x="320" y="1205"/>
                      <a:pt x="353" y="1221"/>
                      <a:pt x="391" y="1234"/>
                    </a:cubicBezTo>
                    <a:cubicBezTo>
                      <a:pt x="428" y="1248"/>
                      <a:pt x="477" y="1259"/>
                      <a:pt x="511" y="1257"/>
                    </a:cubicBezTo>
                    <a:cubicBezTo>
                      <a:pt x="545" y="1255"/>
                      <a:pt x="577" y="1240"/>
                      <a:pt x="597" y="1223"/>
                    </a:cubicBezTo>
                    <a:cubicBezTo>
                      <a:pt x="616" y="1206"/>
                      <a:pt x="624" y="1184"/>
                      <a:pt x="628" y="1152"/>
                    </a:cubicBezTo>
                    <a:cubicBezTo>
                      <a:pt x="631" y="1119"/>
                      <a:pt x="635" y="1076"/>
                      <a:pt x="620" y="1026"/>
                    </a:cubicBezTo>
                    <a:cubicBezTo>
                      <a:pt x="605" y="976"/>
                      <a:pt x="558" y="897"/>
                      <a:pt x="538" y="851"/>
                    </a:cubicBezTo>
                    <a:cubicBezTo>
                      <a:pt x="518" y="805"/>
                      <a:pt x="508" y="790"/>
                      <a:pt x="499" y="749"/>
                    </a:cubicBezTo>
                    <a:cubicBezTo>
                      <a:pt x="490" y="708"/>
                      <a:pt x="480" y="657"/>
                      <a:pt x="484" y="605"/>
                    </a:cubicBezTo>
                    <a:cubicBezTo>
                      <a:pt x="488" y="553"/>
                      <a:pt x="508" y="481"/>
                      <a:pt x="523" y="434"/>
                    </a:cubicBezTo>
                    <a:cubicBezTo>
                      <a:pt x="538" y="387"/>
                      <a:pt x="559" y="358"/>
                      <a:pt x="577" y="320"/>
                    </a:cubicBezTo>
                    <a:cubicBezTo>
                      <a:pt x="595" y="282"/>
                      <a:pt x="622" y="244"/>
                      <a:pt x="628" y="203"/>
                    </a:cubicBezTo>
                    <a:cubicBezTo>
                      <a:pt x="634" y="162"/>
                      <a:pt x="630" y="106"/>
                      <a:pt x="614" y="75"/>
                    </a:cubicBezTo>
                    <a:cubicBezTo>
                      <a:pt x="598" y="44"/>
                      <a:pt x="557" y="28"/>
                      <a:pt x="528" y="15"/>
                    </a:cubicBezTo>
                    <a:cubicBezTo>
                      <a:pt x="499" y="3"/>
                      <a:pt x="459" y="3"/>
                      <a:pt x="44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74520" y="4806000"/>
                <a:ext cx="109800" cy="509040"/>
              </a:xfrm>
              <a:custGeom>
                <a:avLst/>
                <a:gdLst/>
                <a:ahLst/>
                <a:rect l="l" t="t" r="r" b="b"/>
                <a:pathLst>
                  <a:path w="157" h="851">
                    <a:moveTo>
                      <a:pt x="148" y="0"/>
                    </a:moveTo>
                    <a:cubicBezTo>
                      <a:pt x="148" y="9"/>
                      <a:pt x="123" y="104"/>
                      <a:pt x="112" y="144"/>
                    </a:cubicBezTo>
                    <a:cubicBezTo>
                      <a:pt x="101" y="184"/>
                      <a:pt x="91" y="204"/>
                      <a:pt x="82" y="240"/>
                    </a:cubicBezTo>
                    <a:cubicBezTo>
                      <a:pt x="73" y="276"/>
                      <a:pt x="62" y="323"/>
                      <a:pt x="58" y="363"/>
                    </a:cubicBezTo>
                    <a:cubicBezTo>
                      <a:pt x="54" y="403"/>
                      <a:pt x="55" y="439"/>
                      <a:pt x="58" y="480"/>
                    </a:cubicBezTo>
                    <a:cubicBezTo>
                      <a:pt x="61" y="521"/>
                      <a:pt x="68" y="568"/>
                      <a:pt x="79" y="612"/>
                    </a:cubicBezTo>
                    <a:cubicBezTo>
                      <a:pt x="90" y="656"/>
                      <a:pt x="112" y="707"/>
                      <a:pt x="124" y="747"/>
                    </a:cubicBezTo>
                    <a:cubicBezTo>
                      <a:pt x="136" y="787"/>
                      <a:pt x="157" y="847"/>
                      <a:pt x="154" y="849"/>
                    </a:cubicBezTo>
                    <a:cubicBezTo>
                      <a:pt x="151" y="851"/>
                      <a:pt x="126" y="798"/>
                      <a:pt x="106" y="756"/>
                    </a:cubicBezTo>
                    <a:cubicBezTo>
                      <a:pt x="86" y="714"/>
                      <a:pt x="48" y="654"/>
                      <a:pt x="31" y="597"/>
                    </a:cubicBezTo>
                    <a:cubicBezTo>
                      <a:pt x="14" y="540"/>
                      <a:pt x="0" y="475"/>
                      <a:pt x="4" y="411"/>
                    </a:cubicBezTo>
                    <a:cubicBezTo>
                      <a:pt x="8" y="347"/>
                      <a:pt x="34" y="267"/>
                      <a:pt x="52" y="213"/>
                    </a:cubicBezTo>
                    <a:cubicBezTo>
                      <a:pt x="70" y="159"/>
                      <a:pt x="99" y="121"/>
                      <a:pt x="115" y="87"/>
                    </a:cubicBezTo>
                    <a:cubicBezTo>
                      <a:pt x="131" y="53"/>
                      <a:pt x="144" y="1"/>
                      <a:pt x="148" y="0"/>
                    </a:cubicBez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77120" y="4807800"/>
                <a:ext cx="103320" cy="511920"/>
              </a:xfrm>
              <a:custGeom>
                <a:avLst/>
                <a:gdLst/>
                <a:ahLst/>
                <a:rect l="l" t="t" r="r" b="b"/>
                <a:pathLst>
                  <a:path w="148" h="856">
                    <a:moveTo>
                      <a:pt x="0" y="0"/>
                    </a:moveTo>
                    <a:cubicBezTo>
                      <a:pt x="0" y="9"/>
                      <a:pt x="25" y="104"/>
                      <a:pt x="36" y="144"/>
                    </a:cubicBezTo>
                    <a:cubicBezTo>
                      <a:pt x="47" y="184"/>
                      <a:pt x="57" y="204"/>
                      <a:pt x="66" y="240"/>
                    </a:cubicBezTo>
                    <a:cubicBezTo>
                      <a:pt x="75" y="276"/>
                      <a:pt x="86" y="323"/>
                      <a:pt x="90" y="363"/>
                    </a:cubicBezTo>
                    <a:cubicBezTo>
                      <a:pt x="94" y="403"/>
                      <a:pt x="93" y="439"/>
                      <a:pt x="90" y="480"/>
                    </a:cubicBezTo>
                    <a:cubicBezTo>
                      <a:pt x="87" y="521"/>
                      <a:pt x="80" y="568"/>
                      <a:pt x="69" y="612"/>
                    </a:cubicBezTo>
                    <a:cubicBezTo>
                      <a:pt x="58" y="656"/>
                      <a:pt x="35" y="707"/>
                      <a:pt x="24" y="747"/>
                    </a:cubicBezTo>
                    <a:cubicBezTo>
                      <a:pt x="13" y="787"/>
                      <a:pt x="1" y="854"/>
                      <a:pt x="4" y="855"/>
                    </a:cubicBezTo>
                    <a:cubicBezTo>
                      <a:pt x="7" y="856"/>
                      <a:pt x="23" y="799"/>
                      <a:pt x="42" y="756"/>
                    </a:cubicBezTo>
                    <a:cubicBezTo>
                      <a:pt x="61" y="713"/>
                      <a:pt x="100" y="654"/>
                      <a:pt x="117" y="597"/>
                    </a:cubicBezTo>
                    <a:cubicBezTo>
                      <a:pt x="134" y="540"/>
                      <a:pt x="148" y="475"/>
                      <a:pt x="144" y="411"/>
                    </a:cubicBezTo>
                    <a:cubicBezTo>
                      <a:pt x="140" y="347"/>
                      <a:pt x="114" y="267"/>
                      <a:pt x="96" y="213"/>
                    </a:cubicBezTo>
                    <a:cubicBezTo>
                      <a:pt x="78" y="159"/>
                      <a:pt x="49" y="121"/>
                      <a:pt x="33" y="87"/>
                    </a:cubicBezTo>
                    <a:cubicBezTo>
                      <a:pt x="17" y="53"/>
                      <a:pt x="4" y="1"/>
                      <a:pt x="0" y="0"/>
                    </a:cubicBez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95880" y="5098320"/>
                <a:ext cx="57960" cy="49320"/>
              </a:xfrm>
              <a:prstGeom prst="ellipse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32320" y="5139720"/>
                <a:ext cx="57960" cy="49320"/>
              </a:xfrm>
              <a:prstGeom prst="ellipse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83360" y="5223960"/>
                <a:ext cx="57960" cy="49320"/>
              </a:xfrm>
              <a:prstGeom prst="ellipse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66600" y="5356800"/>
                <a:ext cx="57960" cy="49320"/>
              </a:xfrm>
              <a:prstGeom prst="ellipse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00720" y="5171040"/>
                <a:ext cx="57960" cy="49320"/>
              </a:xfrm>
              <a:prstGeom prst="ellips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53200" y="5321160"/>
                <a:ext cx="57960" cy="4932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74080" y="4890240"/>
                <a:ext cx="57960" cy="49320"/>
              </a:xfrm>
              <a:prstGeom prst="ellipse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24680" y="4873320"/>
                <a:ext cx="57960" cy="49320"/>
              </a:xfrm>
              <a:prstGeom prst="ellipse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58320" y="5250600"/>
                <a:ext cx="57960" cy="49320"/>
              </a:xfrm>
              <a:prstGeom prst="ellipse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70920" y="4820400"/>
                <a:ext cx="57960" cy="49320"/>
              </a:xfrm>
              <a:prstGeom prst="ellipse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81920" y="4818600"/>
                <a:ext cx="57960" cy="49320"/>
              </a:xfrm>
              <a:prstGeom prst="ellipse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58240" y="4763880"/>
                <a:ext cx="57960" cy="49320"/>
              </a:xfrm>
              <a:prstGeom prst="ellipse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45720" y="4721040"/>
                <a:ext cx="57960" cy="49320"/>
              </a:xfrm>
              <a:prstGeom prst="ellipse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52080" y="5143320"/>
                <a:ext cx="57960" cy="49320"/>
              </a:xfrm>
              <a:prstGeom prst="ellipse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83120" y="5144760"/>
                <a:ext cx="57960" cy="49320"/>
              </a:xfrm>
              <a:prstGeom prst="ellipse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34160" y="5247000"/>
                <a:ext cx="57960" cy="49320"/>
              </a:xfrm>
              <a:prstGeom prst="ellipse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55680" y="5325480"/>
                <a:ext cx="57960" cy="49320"/>
              </a:xfrm>
              <a:prstGeom prst="ellipse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99520" y="5220720"/>
                <a:ext cx="57960" cy="49320"/>
              </a:xfrm>
              <a:prstGeom prst="ellipse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41080" y="5006880"/>
                <a:ext cx="57960" cy="49320"/>
              </a:xfrm>
              <a:prstGeom prst="ellipse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54320" y="5066280"/>
                <a:ext cx="57960" cy="49320"/>
              </a:xfrm>
              <a:prstGeom prst="ellipse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41560" y="5335560"/>
                <a:ext cx="57960" cy="49320"/>
              </a:xfrm>
              <a:prstGeom prst="ellipse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64600" y="4798080"/>
                <a:ext cx="57960" cy="49320"/>
              </a:xfrm>
              <a:prstGeom prst="ellipse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94200" y="4817160"/>
                <a:ext cx="57960" cy="49320"/>
              </a:xfrm>
              <a:prstGeom prst="ellipse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08160" y="4725000"/>
                <a:ext cx="57960" cy="49320"/>
              </a:xfrm>
              <a:prstGeom prst="ellipse">
                <a:avLst/>
              </a:pr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18200" y="4969800"/>
                <a:ext cx="153720" cy="127080"/>
              </a:xfrm>
              <a:custGeom>
                <a:avLst/>
                <a:gdLst/>
                <a:ahLst/>
                <a:rect l="l" t="t" r="r" b="b"/>
                <a:pathLst>
                  <a:path w="220" h="213">
                    <a:moveTo>
                      <a:pt x="124" y="2"/>
                    </a:moveTo>
                    <a:cubicBezTo>
                      <a:pt x="99" y="0"/>
                      <a:pt x="69" y="9"/>
                      <a:pt x="49" y="26"/>
                    </a:cubicBezTo>
                    <a:cubicBezTo>
                      <a:pt x="29" y="43"/>
                      <a:pt x="6" y="78"/>
                      <a:pt x="3" y="103"/>
                    </a:cubicBezTo>
                    <a:cubicBezTo>
                      <a:pt x="0" y="128"/>
                      <a:pt x="16" y="162"/>
                      <a:pt x="28" y="179"/>
                    </a:cubicBezTo>
                    <a:cubicBezTo>
                      <a:pt x="40" y="196"/>
                      <a:pt x="59" y="203"/>
                      <a:pt x="78" y="208"/>
                    </a:cubicBezTo>
                    <a:cubicBezTo>
                      <a:pt x="97" y="213"/>
                      <a:pt x="124" y="213"/>
                      <a:pt x="145" y="208"/>
                    </a:cubicBezTo>
                    <a:cubicBezTo>
                      <a:pt x="166" y="203"/>
                      <a:pt x="190" y="196"/>
                      <a:pt x="202" y="179"/>
                    </a:cubicBezTo>
                    <a:cubicBezTo>
                      <a:pt x="214" y="162"/>
                      <a:pt x="220" y="126"/>
                      <a:pt x="220" y="103"/>
                    </a:cubicBezTo>
                    <a:cubicBezTo>
                      <a:pt x="220" y="80"/>
                      <a:pt x="218" y="55"/>
                      <a:pt x="202" y="38"/>
                    </a:cubicBezTo>
                    <a:cubicBezTo>
                      <a:pt x="186" y="21"/>
                      <a:pt x="147" y="6"/>
                      <a:pt x="124" y="2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4880880" y="4903560"/>
                <a:ext cx="154080" cy="127080"/>
              </a:xfrm>
              <a:custGeom>
                <a:avLst/>
                <a:gdLst/>
                <a:ahLst/>
                <a:rect l="l" t="t" r="r" b="b"/>
                <a:pathLst>
                  <a:path w="220" h="213">
                    <a:moveTo>
                      <a:pt x="124" y="2"/>
                    </a:moveTo>
                    <a:cubicBezTo>
                      <a:pt x="99" y="0"/>
                      <a:pt x="69" y="9"/>
                      <a:pt x="49" y="26"/>
                    </a:cubicBezTo>
                    <a:cubicBezTo>
                      <a:pt x="29" y="43"/>
                      <a:pt x="6" y="78"/>
                      <a:pt x="3" y="103"/>
                    </a:cubicBezTo>
                    <a:cubicBezTo>
                      <a:pt x="0" y="128"/>
                      <a:pt x="16" y="162"/>
                      <a:pt x="28" y="179"/>
                    </a:cubicBezTo>
                    <a:cubicBezTo>
                      <a:pt x="40" y="196"/>
                      <a:pt x="59" y="203"/>
                      <a:pt x="78" y="208"/>
                    </a:cubicBezTo>
                    <a:cubicBezTo>
                      <a:pt x="97" y="213"/>
                      <a:pt x="124" y="213"/>
                      <a:pt x="145" y="208"/>
                    </a:cubicBezTo>
                    <a:cubicBezTo>
                      <a:pt x="166" y="203"/>
                      <a:pt x="190" y="196"/>
                      <a:pt x="202" y="179"/>
                    </a:cubicBezTo>
                    <a:cubicBezTo>
                      <a:pt x="214" y="162"/>
                      <a:pt x="220" y="126"/>
                      <a:pt x="220" y="103"/>
                    </a:cubicBezTo>
                    <a:cubicBezTo>
                      <a:pt x="220" y="80"/>
                      <a:pt x="218" y="55"/>
                      <a:pt x="202" y="38"/>
                    </a:cubicBezTo>
                    <a:cubicBezTo>
                      <a:pt x="186" y="21"/>
                      <a:pt x="147" y="6"/>
                      <a:pt x="124" y="2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4136400" y="4585320"/>
                <a:ext cx="1065960" cy="965160"/>
                <a:chOff x="4136400" y="4585320"/>
                <a:chExt cx="1065960" cy="9651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539960" y="4585320"/>
                  <a:ext cx="387360" cy="114480"/>
                </a:xfrm>
                <a:custGeom>
                  <a:avLst/>
                  <a:gdLst/>
                  <a:ahLst/>
                  <a:rect l="l" t="t" r="r" b="b"/>
                  <a:pathLst>
                    <a:path w="554" h="192">
                      <a:moveTo>
                        <a:pt x="14" y="0"/>
                      </a:moveTo>
                      <a:cubicBezTo>
                        <a:pt x="10" y="19"/>
                        <a:pt x="7" y="39"/>
                        <a:pt x="5" y="57"/>
                      </a:cubicBezTo>
                      <a:cubicBezTo>
                        <a:pt x="3" y="75"/>
                        <a:pt x="0" y="98"/>
                        <a:pt x="5" y="108"/>
                      </a:cubicBezTo>
                      <a:cubicBezTo>
                        <a:pt x="10" y="118"/>
                        <a:pt x="19" y="111"/>
                        <a:pt x="32" y="114"/>
                      </a:cubicBezTo>
                      <a:cubicBezTo>
                        <a:pt x="45" y="117"/>
                        <a:pt x="72" y="125"/>
                        <a:pt x="86" y="129"/>
                      </a:cubicBezTo>
                      <a:cubicBezTo>
                        <a:pt x="100" y="133"/>
                        <a:pt x="106" y="134"/>
                        <a:pt x="119" y="141"/>
                      </a:cubicBezTo>
                      <a:cubicBezTo>
                        <a:pt x="132" y="148"/>
                        <a:pt x="151" y="162"/>
                        <a:pt x="164" y="171"/>
                      </a:cubicBezTo>
                      <a:cubicBezTo>
                        <a:pt x="177" y="180"/>
                        <a:pt x="188" y="192"/>
                        <a:pt x="197" y="192"/>
                      </a:cubicBezTo>
                      <a:cubicBezTo>
                        <a:pt x="206" y="192"/>
                        <a:pt x="207" y="179"/>
                        <a:pt x="221" y="171"/>
                      </a:cubicBezTo>
                      <a:cubicBezTo>
                        <a:pt x="235" y="163"/>
                        <a:pt x="253" y="151"/>
                        <a:pt x="278" y="144"/>
                      </a:cubicBezTo>
                      <a:cubicBezTo>
                        <a:pt x="303" y="137"/>
                        <a:pt x="340" y="126"/>
                        <a:pt x="374" y="126"/>
                      </a:cubicBezTo>
                      <a:cubicBezTo>
                        <a:pt x="408" y="126"/>
                        <a:pt x="458" y="148"/>
                        <a:pt x="482" y="144"/>
                      </a:cubicBezTo>
                      <a:cubicBezTo>
                        <a:pt x="506" y="140"/>
                        <a:pt x="509" y="116"/>
                        <a:pt x="521" y="102"/>
                      </a:cubicBezTo>
                      <a:cubicBezTo>
                        <a:pt x="533" y="88"/>
                        <a:pt x="547" y="69"/>
                        <a:pt x="554" y="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898880" y="4629960"/>
                  <a:ext cx="288720" cy="240480"/>
                </a:xfrm>
                <a:custGeom>
                  <a:avLst/>
                  <a:gdLst/>
                  <a:ahLst/>
                  <a:rect l="l" t="t" r="r" b="b"/>
                  <a:pathLst>
                    <a:path w="413" h="402">
                      <a:moveTo>
                        <a:pt x="74" y="0"/>
                      </a:moveTo>
                      <a:cubicBezTo>
                        <a:pt x="62" y="13"/>
                        <a:pt x="50" y="26"/>
                        <a:pt x="41" y="36"/>
                      </a:cubicBezTo>
                      <a:cubicBezTo>
                        <a:pt x="32" y="46"/>
                        <a:pt x="22" y="53"/>
                        <a:pt x="17" y="63"/>
                      </a:cubicBezTo>
                      <a:cubicBezTo>
                        <a:pt x="12" y="73"/>
                        <a:pt x="0" y="85"/>
                        <a:pt x="8" y="96"/>
                      </a:cubicBezTo>
                      <a:cubicBezTo>
                        <a:pt x="16" y="107"/>
                        <a:pt x="46" y="115"/>
                        <a:pt x="65" y="129"/>
                      </a:cubicBezTo>
                      <a:cubicBezTo>
                        <a:pt x="84" y="143"/>
                        <a:pt x="103" y="157"/>
                        <a:pt x="125" y="177"/>
                      </a:cubicBezTo>
                      <a:cubicBezTo>
                        <a:pt x="147" y="197"/>
                        <a:pt x="175" y="227"/>
                        <a:pt x="197" y="252"/>
                      </a:cubicBezTo>
                      <a:cubicBezTo>
                        <a:pt x="219" y="277"/>
                        <a:pt x="244" y="304"/>
                        <a:pt x="260" y="327"/>
                      </a:cubicBezTo>
                      <a:cubicBezTo>
                        <a:pt x="276" y="350"/>
                        <a:pt x="286" y="378"/>
                        <a:pt x="296" y="390"/>
                      </a:cubicBezTo>
                      <a:cubicBezTo>
                        <a:pt x="306" y="402"/>
                        <a:pt x="312" y="402"/>
                        <a:pt x="323" y="399"/>
                      </a:cubicBezTo>
                      <a:cubicBezTo>
                        <a:pt x="334" y="396"/>
                        <a:pt x="350" y="378"/>
                        <a:pt x="362" y="369"/>
                      </a:cubicBezTo>
                      <a:cubicBezTo>
                        <a:pt x="374" y="360"/>
                        <a:pt x="386" y="351"/>
                        <a:pt x="395" y="345"/>
                      </a:cubicBezTo>
                      <a:cubicBezTo>
                        <a:pt x="404" y="339"/>
                        <a:pt x="408" y="336"/>
                        <a:pt x="413" y="33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038200" y="4858200"/>
                  <a:ext cx="164160" cy="523800"/>
                </a:xfrm>
                <a:custGeom>
                  <a:avLst/>
                  <a:gdLst/>
                  <a:ahLst/>
                  <a:rect l="l" t="t" r="r" b="b"/>
                  <a:pathLst>
                    <a:path w="235" h="876">
                      <a:moveTo>
                        <a:pt x="235" y="0"/>
                      </a:moveTo>
                      <a:cubicBezTo>
                        <a:pt x="219" y="5"/>
                        <a:pt x="204" y="10"/>
                        <a:pt x="187" y="18"/>
                      </a:cubicBezTo>
                      <a:cubicBezTo>
                        <a:pt x="170" y="26"/>
                        <a:pt x="142" y="38"/>
                        <a:pt x="133" y="51"/>
                      </a:cubicBezTo>
                      <a:cubicBezTo>
                        <a:pt x="124" y="64"/>
                        <a:pt x="130" y="78"/>
                        <a:pt x="133" y="96"/>
                      </a:cubicBezTo>
                      <a:cubicBezTo>
                        <a:pt x="136" y="114"/>
                        <a:pt x="148" y="138"/>
                        <a:pt x="154" y="162"/>
                      </a:cubicBezTo>
                      <a:cubicBezTo>
                        <a:pt x="160" y="186"/>
                        <a:pt x="166" y="211"/>
                        <a:pt x="169" y="240"/>
                      </a:cubicBezTo>
                      <a:cubicBezTo>
                        <a:pt x="172" y="269"/>
                        <a:pt x="175" y="300"/>
                        <a:pt x="175" y="336"/>
                      </a:cubicBezTo>
                      <a:cubicBezTo>
                        <a:pt x="175" y="372"/>
                        <a:pt x="171" y="417"/>
                        <a:pt x="166" y="456"/>
                      </a:cubicBezTo>
                      <a:cubicBezTo>
                        <a:pt x="161" y="495"/>
                        <a:pt x="155" y="537"/>
                        <a:pt x="145" y="573"/>
                      </a:cubicBezTo>
                      <a:cubicBezTo>
                        <a:pt x="135" y="609"/>
                        <a:pt x="124" y="637"/>
                        <a:pt x="106" y="672"/>
                      </a:cubicBezTo>
                      <a:cubicBezTo>
                        <a:pt x="88" y="707"/>
                        <a:pt x="54" y="760"/>
                        <a:pt x="37" y="783"/>
                      </a:cubicBezTo>
                      <a:cubicBezTo>
                        <a:pt x="20" y="806"/>
                        <a:pt x="0" y="802"/>
                        <a:pt x="1" y="813"/>
                      </a:cubicBezTo>
                      <a:cubicBezTo>
                        <a:pt x="2" y="824"/>
                        <a:pt x="28" y="839"/>
                        <a:pt x="43" y="849"/>
                      </a:cubicBezTo>
                      <a:cubicBezTo>
                        <a:pt x="58" y="859"/>
                        <a:pt x="81" y="871"/>
                        <a:pt x="91" y="87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570920" y="5366520"/>
                  <a:ext cx="522360" cy="183960"/>
                </a:xfrm>
                <a:custGeom>
                  <a:avLst/>
                  <a:gdLst/>
                  <a:ahLst/>
                  <a:rect l="l" t="t" r="r" b="b"/>
                  <a:pathLst>
                    <a:path w="747" h="308">
                      <a:moveTo>
                        <a:pt x="747" y="62"/>
                      </a:moveTo>
                      <a:cubicBezTo>
                        <a:pt x="731" y="53"/>
                        <a:pt x="715" y="44"/>
                        <a:pt x="699" y="35"/>
                      </a:cubicBezTo>
                      <a:cubicBezTo>
                        <a:pt x="683" y="26"/>
                        <a:pt x="664" y="8"/>
                        <a:pt x="648" y="5"/>
                      </a:cubicBezTo>
                      <a:cubicBezTo>
                        <a:pt x="632" y="2"/>
                        <a:pt x="622" y="0"/>
                        <a:pt x="603" y="14"/>
                      </a:cubicBezTo>
                      <a:cubicBezTo>
                        <a:pt x="584" y="28"/>
                        <a:pt x="560" y="70"/>
                        <a:pt x="531" y="92"/>
                      </a:cubicBezTo>
                      <a:cubicBezTo>
                        <a:pt x="502" y="114"/>
                        <a:pt x="463" y="136"/>
                        <a:pt x="429" y="149"/>
                      </a:cubicBezTo>
                      <a:cubicBezTo>
                        <a:pt x="395" y="162"/>
                        <a:pt x="355" y="167"/>
                        <a:pt x="327" y="170"/>
                      </a:cubicBezTo>
                      <a:cubicBezTo>
                        <a:pt x="299" y="173"/>
                        <a:pt x="281" y="174"/>
                        <a:pt x="258" y="170"/>
                      </a:cubicBezTo>
                      <a:cubicBezTo>
                        <a:pt x="235" y="166"/>
                        <a:pt x="206" y="156"/>
                        <a:pt x="189" y="146"/>
                      </a:cubicBezTo>
                      <a:cubicBezTo>
                        <a:pt x="172" y="136"/>
                        <a:pt x="165" y="114"/>
                        <a:pt x="156" y="110"/>
                      </a:cubicBezTo>
                      <a:cubicBezTo>
                        <a:pt x="147" y="106"/>
                        <a:pt x="146" y="116"/>
                        <a:pt x="132" y="125"/>
                      </a:cubicBezTo>
                      <a:cubicBezTo>
                        <a:pt x="118" y="134"/>
                        <a:pt x="91" y="157"/>
                        <a:pt x="72" y="167"/>
                      </a:cubicBezTo>
                      <a:cubicBezTo>
                        <a:pt x="53" y="177"/>
                        <a:pt x="33" y="167"/>
                        <a:pt x="21" y="185"/>
                      </a:cubicBezTo>
                      <a:cubicBezTo>
                        <a:pt x="9" y="203"/>
                        <a:pt x="6" y="255"/>
                        <a:pt x="3" y="275"/>
                      </a:cubicBezTo>
                      <a:cubicBezTo>
                        <a:pt x="0" y="295"/>
                        <a:pt x="2" y="300"/>
                        <a:pt x="3" y="30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44680" y="5055840"/>
                  <a:ext cx="415440" cy="476640"/>
                </a:xfrm>
                <a:custGeom>
                  <a:avLst/>
                  <a:gdLst/>
                  <a:ahLst/>
                  <a:rect l="l" t="t" r="r" b="b"/>
                  <a:pathLst>
                    <a:path w="594" h="797">
                      <a:moveTo>
                        <a:pt x="570" y="797"/>
                      </a:moveTo>
                      <a:cubicBezTo>
                        <a:pt x="574" y="775"/>
                        <a:pt x="579" y="754"/>
                        <a:pt x="582" y="737"/>
                      </a:cubicBezTo>
                      <a:cubicBezTo>
                        <a:pt x="585" y="720"/>
                        <a:pt x="594" y="702"/>
                        <a:pt x="591" y="692"/>
                      </a:cubicBezTo>
                      <a:cubicBezTo>
                        <a:pt x="588" y="682"/>
                        <a:pt x="583" y="682"/>
                        <a:pt x="567" y="677"/>
                      </a:cubicBezTo>
                      <a:cubicBezTo>
                        <a:pt x="551" y="672"/>
                        <a:pt x="523" y="670"/>
                        <a:pt x="495" y="662"/>
                      </a:cubicBezTo>
                      <a:cubicBezTo>
                        <a:pt x="467" y="654"/>
                        <a:pt x="432" y="647"/>
                        <a:pt x="399" y="626"/>
                      </a:cubicBezTo>
                      <a:cubicBezTo>
                        <a:pt x="366" y="605"/>
                        <a:pt x="324" y="569"/>
                        <a:pt x="294" y="539"/>
                      </a:cubicBezTo>
                      <a:cubicBezTo>
                        <a:pt x="264" y="509"/>
                        <a:pt x="242" y="482"/>
                        <a:pt x="216" y="443"/>
                      </a:cubicBezTo>
                      <a:cubicBezTo>
                        <a:pt x="190" y="404"/>
                        <a:pt x="157" y="351"/>
                        <a:pt x="138" y="302"/>
                      </a:cubicBezTo>
                      <a:cubicBezTo>
                        <a:pt x="119" y="253"/>
                        <a:pt x="108" y="190"/>
                        <a:pt x="99" y="146"/>
                      </a:cubicBezTo>
                      <a:cubicBezTo>
                        <a:pt x="90" y="102"/>
                        <a:pt x="88" y="59"/>
                        <a:pt x="84" y="35"/>
                      </a:cubicBezTo>
                      <a:cubicBezTo>
                        <a:pt x="80" y="11"/>
                        <a:pt x="85" y="4"/>
                        <a:pt x="75" y="2"/>
                      </a:cubicBezTo>
                      <a:cubicBezTo>
                        <a:pt x="65" y="0"/>
                        <a:pt x="36" y="17"/>
                        <a:pt x="24" y="23"/>
                      </a:cubicBezTo>
                      <a:cubicBezTo>
                        <a:pt x="12" y="29"/>
                        <a:pt x="4" y="38"/>
                        <a:pt x="0" y="4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36400" y="4586760"/>
                  <a:ext cx="392400" cy="457560"/>
                </a:xfrm>
                <a:custGeom>
                  <a:avLst/>
                  <a:gdLst/>
                  <a:ahLst/>
                  <a:rect l="l" t="t" r="r" b="b"/>
                  <a:pathLst>
                    <a:path w="561" h="765">
                      <a:moveTo>
                        <a:pt x="561" y="0"/>
                      </a:moveTo>
                      <a:cubicBezTo>
                        <a:pt x="559" y="13"/>
                        <a:pt x="550" y="57"/>
                        <a:pt x="543" y="78"/>
                      </a:cubicBezTo>
                      <a:cubicBezTo>
                        <a:pt x="536" y="99"/>
                        <a:pt x="538" y="110"/>
                        <a:pt x="519" y="126"/>
                      </a:cubicBezTo>
                      <a:cubicBezTo>
                        <a:pt x="500" y="142"/>
                        <a:pt x="466" y="151"/>
                        <a:pt x="429" y="174"/>
                      </a:cubicBezTo>
                      <a:cubicBezTo>
                        <a:pt x="392" y="197"/>
                        <a:pt x="340" y="231"/>
                        <a:pt x="300" y="267"/>
                      </a:cubicBezTo>
                      <a:cubicBezTo>
                        <a:pt x="260" y="303"/>
                        <a:pt x="221" y="344"/>
                        <a:pt x="192" y="390"/>
                      </a:cubicBezTo>
                      <a:cubicBezTo>
                        <a:pt x="163" y="436"/>
                        <a:pt x="143" y="492"/>
                        <a:pt x="126" y="543"/>
                      </a:cubicBezTo>
                      <a:cubicBezTo>
                        <a:pt x="109" y="594"/>
                        <a:pt x="101" y="664"/>
                        <a:pt x="90" y="696"/>
                      </a:cubicBezTo>
                      <a:cubicBezTo>
                        <a:pt x="79" y="728"/>
                        <a:pt x="72" y="723"/>
                        <a:pt x="57" y="735"/>
                      </a:cubicBezTo>
                      <a:cubicBezTo>
                        <a:pt x="42" y="747"/>
                        <a:pt x="12" y="759"/>
                        <a:pt x="0" y="7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277880" y="5548680"/>
              <a:ext cx="79812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mata op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Verdana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Verdana"/>
              </a:rPr>
              <a:t>More than </a:t>
            </a:r>
            <a:r>
              <a:rPr b="0" lang="en-US" sz="4000" spc="-1" strike="noStrike" u="sng">
                <a:solidFill>
                  <a:srgbClr val="006600"/>
                </a:solidFill>
                <a:uFillTx/>
                <a:latin typeface="Verdana"/>
              </a:rPr>
              <a:t>90%</a:t>
            </a:r>
            <a:r>
              <a:rPr b="0" lang="en-US" sz="4000" spc="-1" strike="noStrike">
                <a:solidFill>
                  <a:srgbClr val="006600"/>
                </a:solidFill>
                <a:latin typeface="Verdana"/>
              </a:rPr>
              <a:t> of the water taken up by the roots are lost to the atmosphere as water vapor (through the </a:t>
            </a:r>
            <a:r>
              <a:rPr b="0" lang="en-US" sz="4000" spc="-1" strike="noStrike" u="sng">
                <a:solidFill>
                  <a:srgbClr val="006600"/>
                </a:solidFill>
                <a:uFillTx/>
                <a:latin typeface="Verdana"/>
              </a:rPr>
              <a:t>stomata</a:t>
            </a:r>
            <a:r>
              <a:rPr b="0" lang="en-US" sz="4000" spc="-1" strike="noStrike">
                <a:solidFill>
                  <a:srgbClr val="006600"/>
                </a:solidFill>
                <a:latin typeface="Verdana"/>
              </a:rPr>
              <a:t>); this is called </a:t>
            </a:r>
            <a:r>
              <a:rPr b="0" lang="en-US" sz="4000" spc="-1" strike="noStrike" u="sng">
                <a:solidFill>
                  <a:srgbClr val="006600"/>
                </a:solidFill>
                <a:uFillTx/>
                <a:latin typeface="Verdana"/>
              </a:rPr>
              <a:t>transpi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576760" cy="553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9880" y="2286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1905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267080"/>
            <a:ext cx="1981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015320" y="2895480"/>
            <a:ext cx="761400" cy="1067040"/>
            <a:chOff x="7015320" y="2895480"/>
            <a:chExt cx="761400" cy="1067040"/>
          </a:xfrm>
        </p:grpSpPr>
        <p:sp>
          <p:nvSpPr>
            <p:cNvPr id="162" name=""/>
            <p:cNvSpPr/>
            <p:nvPr/>
          </p:nvSpPr>
          <p:spPr>
            <a:xfrm>
              <a:off x="7015320" y="28954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5320" y="396252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95840" y="2895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95840" y="3505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580160" y="2679840"/>
            <a:ext cx="15638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scular t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ylem &amp; phlo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486400" y="5334120"/>
            <a:ext cx="304920" cy="609480"/>
            <a:chOff x="5486400" y="5334120"/>
            <a:chExt cx="304920" cy="609480"/>
          </a:xfrm>
        </p:grpSpPr>
        <p:sp>
          <p:nvSpPr>
            <p:cNvPr id="168" name=""/>
            <p:cNvSpPr/>
            <p:nvPr/>
          </p:nvSpPr>
          <p:spPr>
            <a:xfrm>
              <a:off x="5486400" y="541008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8680" y="53341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105520" y="59436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ard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436920" y="5525640"/>
            <a:ext cx="18720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8680" y="6129360"/>
            <a:ext cx="16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31800" y="2298600"/>
            <a:ext cx="642960" cy="2162160"/>
          </a:xfrm>
          <a:custGeom>
            <a:avLst/>
            <a:gdLst>
              <a:gd name="textAreaLeft" fmla="*/ 410760 w 642960"/>
              <a:gd name="textAreaRight" fmla="*/ 642960 w 642960"/>
              <a:gd name="textAreaTop" fmla="*/ 56160 h 2162160"/>
              <a:gd name="textAreaBottom" fmla="*/ 2106000 h 21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114720"/>
            <a:ext cx="18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sophy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Leaf Adaptation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31840" y="4746600"/>
            <a:ext cx="8302320" cy="1235520"/>
            <a:chOff x="231840" y="4746600"/>
            <a:chExt cx="8302320" cy="1235520"/>
          </a:xfrm>
        </p:grpSpPr>
        <p:sp>
          <p:nvSpPr>
            <p:cNvPr id="177" name=""/>
            <p:cNvSpPr/>
            <p:nvPr/>
          </p:nvSpPr>
          <p:spPr>
            <a:xfrm>
              <a:off x="834840" y="5354640"/>
              <a:ext cx="6661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collect sunlight (tropical)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840" y="4746600"/>
              <a:ext cx="83023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3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Broadleaf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large, flat leaves 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3000" y="3382920"/>
            <a:ext cx="7489800" cy="1192680"/>
            <a:chOff x="243000" y="3382920"/>
            <a:chExt cx="7489800" cy="1192680"/>
          </a:xfrm>
        </p:grpSpPr>
        <p:sp>
          <p:nvSpPr>
            <p:cNvPr id="180" name=""/>
            <p:cNvSpPr/>
            <p:nvPr/>
          </p:nvSpPr>
          <p:spPr>
            <a:xfrm>
              <a:off x="862200" y="3948120"/>
              <a:ext cx="61246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reduce water los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000" y="3382920"/>
              <a:ext cx="74898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2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Pine Needles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thin and waxy 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85760" y="1450800"/>
            <a:ext cx="8678880" cy="1832400"/>
            <a:chOff x="185760" y="1450800"/>
            <a:chExt cx="8678880" cy="1832400"/>
          </a:xfrm>
        </p:grpSpPr>
        <p:sp>
          <p:nvSpPr>
            <p:cNvPr id="183" name=""/>
            <p:cNvSpPr/>
            <p:nvPr/>
          </p:nvSpPr>
          <p:spPr>
            <a:xfrm>
              <a:off x="847800" y="2655720"/>
              <a:ext cx="34988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photosynthetic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0400" y="2065320"/>
              <a:ext cx="7345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reduce water loss; they are not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5760" y="1450800"/>
              <a:ext cx="86788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1.  </a:t>
              </a:r>
              <a:r>
                <a:rPr b="1" lang="en-US" sz="3500" spc="-1" strike="noStrike">
                  <a:solidFill>
                    <a:srgbClr val="006600"/>
                  </a:solidFill>
                  <a:latin typeface="Arial"/>
                </a:rPr>
                <a:t>Cactus</a:t>
              </a:r>
              <a:r>
                <a:rPr b="0" lang="en-US" sz="3500" spc="-1" strike="noStrike">
                  <a:solidFill>
                    <a:srgbClr val="006600"/>
                  </a:solidFill>
                  <a:latin typeface="Arial"/>
                </a:rPr>
                <a:t>:  “thorns” are thin 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5:02:28Z</dcterms:created>
  <dc:creator>Martin LaBar</dc:creator>
  <dc:description/>
  <dc:language>en-US</dc:language>
  <cp:lastModifiedBy>Plano ISD</cp:lastModifiedBy>
  <dcterms:modified xsi:type="dcterms:W3CDTF">2005-02-25T20:30:42Z</dcterms:modified>
  <cp:revision>23</cp:revision>
  <dc:subject/>
  <dc:title>Slide 1</dc:title>
</cp:coreProperties>
</file>